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32B-5293-414D-88CD-A66A0390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171-9224-46B1-868E-5A327412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57C-9E28-4AF5-9D93-A1F411F2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DC8-C964-4E81-8EE6-BEC455AB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C37-D345-4B4A-8779-46606B9C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03B-66FF-4981-9477-9C2B0E53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6DE-73BF-4CD5-9903-628B72FC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033-8ADD-4BAE-AC7F-816C79DC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5C2-CE6B-4AD3-A9B5-4C9E32A5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A52-D6E7-4A70-B25F-F8C110BD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3BB-E372-4F6D-A709-466D8907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5B1-6D9C-4CE4-89BB-C9110491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BK REVIEW -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30EA-A525-454F-A4FD-59CE2ABC5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743200" y="6248520"/>
            <a:ext cx="9543960" cy="36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Telecommunications and Network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24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te:  these are slides that were part of a CISSP prep course that I partly developed and taught while I was with Ernst and You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hile these slides are dat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August 1999 -  the core information is still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tact me w/ any questions or commen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en Rothke, CISSP  brothke@hotmail.c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N Topologi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4273560" y="2063880"/>
            <a:ext cx="749160" cy="672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7760" y="191124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21280" y="175896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64080" y="244476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7960" y="236844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35680" y="191124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05740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886200" y="243828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19051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952880" y="205740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028840" y="2438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3352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9360" y="297828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480" y="297828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01960" y="297828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3124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3124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3124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43434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35680" y="396864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11440" y="396864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8280" y="396864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4495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93080" y="503568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93080" y="450216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4572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1680" y="5105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7960" y="4654440"/>
            <a:ext cx="520560" cy="520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9680" y="5492880"/>
            <a:ext cx="977760" cy="901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21080" y="640728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16360" y="640728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21080" y="526428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526428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5410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580920" y="54100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743200" y="62481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580920" y="6248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5867280"/>
            <a:ext cx="230400" cy="230400"/>
          </a:xfrm>
          <a:custGeom>
            <a:avLst/>
            <a:gdLst/>
            <a:ahLst/>
            <a:rect l="l" t="t" r="r" b="b"/>
            <a:pathLst>
              <a:path w="145" h="145">
                <a:moveTo>
                  <a:pt x="72" y="144"/>
                </a:moveTo>
                <a:lnTo>
                  <a:pt x="0" y="0"/>
                </a:lnTo>
                <a:lnTo>
                  <a:pt x="144" y="0"/>
                </a:lnTo>
                <a:lnTo>
                  <a:pt x="72" y="14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5867280"/>
            <a:ext cx="306360" cy="230400"/>
          </a:xfrm>
          <a:custGeom>
            <a:avLst/>
            <a:gdLst/>
            <a:ahLst/>
            <a:rect l="l" t="t" r="r" b="b"/>
            <a:pathLst>
              <a:path w="193" h="145">
                <a:moveTo>
                  <a:pt x="96" y="0"/>
                </a:moveTo>
                <a:lnTo>
                  <a:pt x="0" y="144"/>
                </a:lnTo>
                <a:lnTo>
                  <a:pt x="192" y="144"/>
                </a:lnTo>
                <a:lnTo>
                  <a:pt x="9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r Topolog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hone wiring is one common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er of star is the wire clo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 Topology easily maintain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664080" y="4730760"/>
            <a:ext cx="749160" cy="67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8280" y="457848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11440" y="442584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54240" y="511164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8480" y="503568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25840" y="457848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72428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76720" y="510516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457200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343400" y="4724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4419360" y="510516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us Topolog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ally a cable that attaches many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a “daisy chain” 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er I/O bus is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48006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7080" y="442584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82840" y="442584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9680" y="442584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ee Topolog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nsion of bus and star topolog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ha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48769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21480" y="450216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97240" y="450216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64080" y="450216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67480" y="5029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78880" y="556884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78880" y="503568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467480" y="5638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73760" y="5187960"/>
            <a:ext cx="5205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54100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78680" y="404496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11840" y="404496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28954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92880" y="252108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8640" y="252108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35480" y="252108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05320" y="26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26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26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30481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50280" y="358776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50280" y="305424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888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3657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45160" y="3206880"/>
            <a:ext cx="5205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289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4290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248160" y="3886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48520" y="3886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886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78680" y="610236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11840" y="610236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952880" y="5943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5943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81680" y="5943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65840" y="51944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5638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ing Topolog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inuous closed path between devic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ogical ring is usually a physical 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confuse logical and physical t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3892680" y="2901960"/>
            <a:ext cx="977760" cy="90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64080" y="381636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9360" y="381636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64080" y="2673360"/>
            <a:ext cx="21564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9360" y="267336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2819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723920" y="2819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886200" y="36572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723920" y="36572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3276720"/>
            <a:ext cx="230400" cy="230040"/>
          </a:xfrm>
          <a:custGeom>
            <a:avLst/>
            <a:gdLst/>
            <a:ahLst/>
            <a:rect l="l" t="t" r="r" b="b"/>
            <a:pathLst>
              <a:path w="145" h="145">
                <a:moveTo>
                  <a:pt x="72" y="144"/>
                </a:moveTo>
                <a:lnTo>
                  <a:pt x="0" y="0"/>
                </a:lnTo>
                <a:lnTo>
                  <a:pt x="144" y="0"/>
                </a:lnTo>
                <a:lnTo>
                  <a:pt x="72" y="14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4280" y="3276720"/>
            <a:ext cx="306360" cy="230040"/>
          </a:xfrm>
          <a:custGeom>
            <a:avLst/>
            <a:gdLst/>
            <a:ahLst/>
            <a:rect l="l" t="t" r="r" b="b"/>
            <a:pathLst>
              <a:path w="193" h="145">
                <a:moveTo>
                  <a:pt x="96" y="0"/>
                </a:moveTo>
                <a:lnTo>
                  <a:pt x="0" y="144"/>
                </a:lnTo>
                <a:lnTo>
                  <a:pt x="192" y="144"/>
                </a:lnTo>
                <a:lnTo>
                  <a:pt x="9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2840" y="633096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87960" y="633096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82840" y="518796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87960" y="5187960"/>
            <a:ext cx="2160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8640" y="5645160"/>
            <a:ext cx="9018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21560" y="5616720"/>
            <a:ext cx="71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67160" y="5316480"/>
            <a:ext cx="649080" cy="476280"/>
          </a:xfrm>
          <a:custGeom>
            <a:avLst/>
            <a:gdLst/>
            <a:ahLst/>
            <a:rect l="l" t="t" r="r" b="b"/>
            <a:pathLst>
              <a:path w="409" h="300">
                <a:moveTo>
                  <a:pt x="312" y="299"/>
                </a:moveTo>
                <a:lnTo>
                  <a:pt x="24" y="107"/>
                </a:lnTo>
                <a:lnTo>
                  <a:pt x="10" y="75"/>
                </a:lnTo>
                <a:lnTo>
                  <a:pt x="0" y="53"/>
                </a:lnTo>
                <a:lnTo>
                  <a:pt x="21" y="21"/>
                </a:lnTo>
                <a:lnTo>
                  <a:pt x="43" y="0"/>
                </a:lnTo>
                <a:lnTo>
                  <a:pt x="75" y="0"/>
                </a:lnTo>
                <a:lnTo>
                  <a:pt x="107" y="0"/>
                </a:lnTo>
                <a:lnTo>
                  <a:pt x="139" y="11"/>
                </a:lnTo>
                <a:lnTo>
                  <a:pt x="168" y="11"/>
                </a:lnTo>
                <a:lnTo>
                  <a:pt x="408" y="20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4280" y="5299200"/>
            <a:ext cx="614520" cy="493560"/>
          </a:xfrm>
          <a:custGeom>
            <a:avLst/>
            <a:gdLst/>
            <a:ahLst/>
            <a:rect l="l" t="t" r="r" b="b"/>
            <a:pathLst>
              <a:path w="387" h="311">
                <a:moveTo>
                  <a:pt x="0" y="214"/>
                </a:moveTo>
                <a:lnTo>
                  <a:pt x="192" y="22"/>
                </a:lnTo>
                <a:lnTo>
                  <a:pt x="215" y="11"/>
                </a:lnTo>
                <a:lnTo>
                  <a:pt x="247" y="11"/>
                </a:lnTo>
                <a:lnTo>
                  <a:pt x="279" y="0"/>
                </a:lnTo>
                <a:lnTo>
                  <a:pt x="311" y="0"/>
                </a:lnTo>
                <a:lnTo>
                  <a:pt x="333" y="11"/>
                </a:lnTo>
                <a:lnTo>
                  <a:pt x="365" y="22"/>
                </a:lnTo>
                <a:lnTo>
                  <a:pt x="375" y="54"/>
                </a:lnTo>
                <a:lnTo>
                  <a:pt x="386" y="86"/>
                </a:lnTo>
                <a:lnTo>
                  <a:pt x="354" y="107"/>
                </a:lnTo>
                <a:lnTo>
                  <a:pt x="96" y="3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2240" y="5943600"/>
            <a:ext cx="836640" cy="514440"/>
          </a:xfrm>
          <a:custGeom>
            <a:avLst/>
            <a:gdLst/>
            <a:ahLst/>
            <a:rect l="l" t="t" r="r" b="b"/>
            <a:pathLst>
              <a:path w="527" h="324">
                <a:moveTo>
                  <a:pt x="334" y="0"/>
                </a:moveTo>
                <a:lnTo>
                  <a:pt x="46" y="144"/>
                </a:lnTo>
                <a:lnTo>
                  <a:pt x="22" y="151"/>
                </a:lnTo>
                <a:lnTo>
                  <a:pt x="11" y="173"/>
                </a:lnTo>
                <a:lnTo>
                  <a:pt x="11" y="205"/>
                </a:lnTo>
                <a:lnTo>
                  <a:pt x="11" y="237"/>
                </a:lnTo>
                <a:lnTo>
                  <a:pt x="0" y="269"/>
                </a:lnTo>
                <a:lnTo>
                  <a:pt x="22" y="290"/>
                </a:lnTo>
                <a:lnTo>
                  <a:pt x="54" y="301"/>
                </a:lnTo>
                <a:lnTo>
                  <a:pt x="65" y="323"/>
                </a:lnTo>
                <a:lnTo>
                  <a:pt x="97" y="323"/>
                </a:lnTo>
                <a:lnTo>
                  <a:pt x="129" y="323"/>
                </a:lnTo>
                <a:lnTo>
                  <a:pt x="140" y="301"/>
                </a:lnTo>
                <a:lnTo>
                  <a:pt x="172" y="301"/>
                </a:lnTo>
                <a:lnTo>
                  <a:pt x="204" y="290"/>
                </a:lnTo>
                <a:lnTo>
                  <a:pt x="526" y="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5867280"/>
            <a:ext cx="672840" cy="555840"/>
          </a:xfrm>
          <a:custGeom>
            <a:avLst/>
            <a:gdLst/>
            <a:ahLst/>
            <a:rect l="l" t="t" r="r" b="b"/>
            <a:pathLst>
              <a:path w="424" h="350">
                <a:moveTo>
                  <a:pt x="144" y="0"/>
                </a:moveTo>
                <a:lnTo>
                  <a:pt x="384" y="192"/>
                </a:lnTo>
                <a:lnTo>
                  <a:pt x="391" y="221"/>
                </a:lnTo>
                <a:lnTo>
                  <a:pt x="413" y="231"/>
                </a:lnTo>
                <a:lnTo>
                  <a:pt x="423" y="253"/>
                </a:lnTo>
                <a:lnTo>
                  <a:pt x="402" y="285"/>
                </a:lnTo>
                <a:lnTo>
                  <a:pt x="370" y="306"/>
                </a:lnTo>
                <a:lnTo>
                  <a:pt x="348" y="317"/>
                </a:lnTo>
                <a:lnTo>
                  <a:pt x="316" y="338"/>
                </a:lnTo>
                <a:lnTo>
                  <a:pt x="284" y="349"/>
                </a:lnTo>
                <a:lnTo>
                  <a:pt x="252" y="349"/>
                </a:lnTo>
                <a:lnTo>
                  <a:pt x="220" y="349"/>
                </a:lnTo>
                <a:lnTo>
                  <a:pt x="198" y="328"/>
                </a:lnTo>
                <a:lnTo>
                  <a:pt x="0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topologi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57200" y="3048120"/>
          <a:ext cx="8377200" cy="327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8120"/>
                    <a:ext cx="8377200" cy="32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N Access Method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rier Sense Multiple Access with Collision Detection (CSMA/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lk when no one else is tal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lk when you have the to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t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to token, talk in free “slot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N Signaling Typ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, serial bit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ad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 TV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N Topologi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B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 t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network typ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adcast technology - transmission stops at termin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80880"/>
            <a:ext cx="6705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8288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on completion of this lesson, you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368440"/>
            <a:ext cx="640080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and understand the OSI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network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LAN top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basic protocols - routing and ro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IP addressing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subnet mas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basic firewall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basic telecommunications secur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oken Bu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EEE 802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large scale, exp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seen in factory 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hen one nee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hannel capabilities of a broadband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ance to electrical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EEE 802.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w is unidirec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node regenerates signal (acts as repea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passed from interface to interface by “tok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one node at a time can have to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or 16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ber Distributed Data Interf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FDDI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al counter rotating 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ices can attach to one or both r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attachment station (SAS), dual (D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oken pa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ally and physically a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I gover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s connect LA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a single 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s most often come from Regional Bell Operating Companies (RBOCs) or Post, Telephone, and Telegraph (PTT) ag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 link contains Data Terminal Equipment (DTE) on user side and Data Circuit-Terminating Equipment (DCE) at WAN provider’s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 - Metropolitan Are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SI Model Revisit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360160" y="1828440"/>
            <a:ext cx="6249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Physic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es the electrical, mechanical, procedural, and functional requirements for activating, maintaining, and deactivating the physical link between en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physical link characteristics include voltage levels, data rates, maximum transmission distances, and physical conn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Layer Hardwa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90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ba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base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T (10 Mbps, 100 meters w/o repe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and shielded twisted pair (UTP most comm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ires per pair, twisted in spir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1 to 10 Mbps, up to 100Mbp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mmunity and emanations improved by shie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2 (10 Mbps, repeater every 200 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Ethernet or Thinnet or Co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-50 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s repeaters every 200-500 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: 50 ohms for ethernet, 75 for T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le and rigid available, flexible most com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mmunity and emanations  very g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axial Cables, co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 uses “T” connectors and 50 ohm termin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segment must have exactly 2 termin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gments may be linked using repeaters, hub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 to OSI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 top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I revis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,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d protocols, 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addressing, subnet m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ndard Etherne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 of 100 taps per seg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intrusive taps available (vampire ta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AUI (Attachment Unit Interfa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ber-Optic Cab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s of Outer jacket, cladding of glass, and core of g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ceiv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al devices to allow you to connect different transmission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include Signal Quality Error (SQE) or “heartbeat” to test collision detection mechanism on each 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include “link light”, lit when conne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b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evice which connects several other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called concentrator, repeater, or multi-station access unit (MA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SI Model Revisit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360160" y="1828440"/>
            <a:ext cx="6249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Data Lin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data transport across a physical 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Link layer handles physical addressing, network topology, line discipline, error notification, orderly delivery of frames, and optional flow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dges operate at this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ata Link Sublay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s downward to lower layer hardwar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s upward to higher layer softwar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dium Access Contro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Data Link Sublayer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address is “physical address”, unique for LAN interface 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called hardware or link-layer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AC address is burned into the Read Only Memory (RO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address is 48 bit address in 12 hexadecimal dig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st six identify vendor, provided by IE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d six unique, provided by ven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Data Link Sublayer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s a uniform interface to upper lay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es upper layers to gain independence over LAN media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per layers use network addresses rather than MAC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optional connection, flow control, and sequencing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rid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Data Link Layer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ice which forwards frames between data link layers associated with two separate c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s source and destination addresses in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bridge receives a frame it attempts to find the destination address in its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ound, frame is forwarded out appropriate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found, frame is flooded on all other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SI/ISO ?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model developed by ISO, International Standards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- Institute of Electrical and Electronics Engine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A - National Security Ag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ST - National Institute for Standards and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- American National Standards Instit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ITT - International Telegraph and Telephone Consultative Commit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rid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Data Link Layer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used for fil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decisions based on source and destination address, type, or combination there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ing done for security or network management rea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bandwidth ho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 sensitive data from 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s can be for local or remo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has “half” at each end of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path should traffic take through network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 packets know where to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protoco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difference between routed and routing protoco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- what something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is S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 - where something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 - how to get t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two devices which are directly connected by the same “wire” can exchange data direc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ices not on the same network must communicate via intermediat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 an intermediat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twork layer determines the best way to transfer data.  It manages device addressing and tracks the location of devices.  The router operates at this lay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L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ridge vs. Rou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s can only extend a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devices appear to be on same “wi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s finite size, dependent on topology, protocol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can connect bridged sub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d network has no limit on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, SIP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routing and 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:  determining the path between two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ing:  moving data along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echanism i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may b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ndle specific features of sub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between data link layer and network layer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Connection-Oriented vs. Connectionless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Virtual Circuit (VC) between two end systems (like a telepho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phases - call setup, data exchange, cal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include X.25, OSI CONP, IBM S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 for traditional terminal-host networks of finit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Connection-Oriented vs. Connectionless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(C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iece of data independently ro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called “datagram” networ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iece of data must carry all addressing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s of many current LAN/WAN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/IP, OSI CLNP, IPX/S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suited to client/server and other distributed system 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Connection-Oriented vs. Connectionless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s can be made Connection Oriented is best for man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et has decided on CL 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mainstream developments on 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networks now built 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extend LAN based networks using CL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ill focus on C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switch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rcuit-switch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path betwee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ne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-switch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s segmented, buffered, &amp; recomb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7960" y="407880"/>
            <a:ext cx="632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SI Referenc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75248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Systems Interconnection Referenc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model for 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dissimilar networks to 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7 protocol layers (a.k.a. protocol st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layer on one workstation communicates with its respective layer on another workstation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oc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agreed-upon communication forma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” each protocol to the model is useful for comparing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L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use MAC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scheme makes much more sense (Think postal - city, state, count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ans routers only need to know regions (domains), not individual comp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twork address identifies the network and the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Layer Address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Address - path part used by rou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Address - specific port or de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3664080" y="3892680"/>
            <a:ext cx="2120760" cy="1054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49440" y="425124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39840" y="3740040"/>
            <a:ext cx="44460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63880" y="4121280"/>
            <a:ext cx="672840" cy="633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16160" y="3816360"/>
            <a:ext cx="291960" cy="21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63880" y="4807080"/>
            <a:ext cx="44424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87560" y="5187960"/>
            <a:ext cx="673200" cy="633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39840" y="4883040"/>
            <a:ext cx="292320" cy="21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97640" y="3740040"/>
            <a:ext cx="44460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21680" y="4121280"/>
            <a:ext cx="672840" cy="633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473960" y="3816360"/>
            <a:ext cx="291960" cy="21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73960" y="5340240"/>
            <a:ext cx="44460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97640" y="5721480"/>
            <a:ext cx="673200" cy="633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50280" y="5416560"/>
            <a:ext cx="291960" cy="21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8680" y="427356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5791320" y="4495680"/>
            <a:ext cx="3808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857640" y="41911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6781320" y="4876920"/>
            <a:ext cx="6858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24080" y="380988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90920" y="4038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1460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24080" y="4419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12800" y="3870360"/>
            <a:ext cx="5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63440" y="4175280"/>
            <a:ext cx="5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39400" y="5241960"/>
            <a:ext cx="5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75120" y="4098960"/>
            <a:ext cx="5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51280" y="4175280"/>
            <a:ext cx="5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75320" y="5775480"/>
            <a:ext cx="5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5257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988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11000" y="5165640"/>
            <a:ext cx="1251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32120" y="516564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20840" y="5546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20840" y="6156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84400" y="554688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82600" y="615636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Layer Addres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P examp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addresses are like street addresses for comp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s are hierarchically divided into subnets called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s are assigned IP addresses and 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s are represented by the network portion of the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addresses and Domains are issued by InterNIC (cooperative activity between the National Science Foundation, Network Solutions, Inc. and AT&amp;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Layer Addres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uses a 4 octet (32 bit)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twork and host portions of the address can vary in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ly, the network is assigned a class according to the size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A uses 1 octet for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B uses 2 octets for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C uses 3 octets for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D is used for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32000" y="304920"/>
            <a:ext cx="6327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 A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66680" y="1447920"/>
            <a:ext cx="7162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an inter-network that has a few networks and a large number of 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ctet assigned, users designate the other 3 octets (24 b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to 128 Class A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to 16,777,216 hosts per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289160" y="5918040"/>
            <a:ext cx="6324480" cy="533520"/>
            <a:chOff x="1289160" y="5918040"/>
            <a:chExt cx="6324480" cy="533520"/>
          </a:xfrm>
        </p:grpSpPr>
        <p:sp>
          <p:nvSpPr>
            <p:cNvPr id="455" name=""/>
            <p:cNvSpPr/>
            <p:nvPr/>
          </p:nvSpPr>
          <p:spPr>
            <a:xfrm>
              <a:off x="1289160" y="5924520"/>
              <a:ext cx="63244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09800" y="5918040"/>
              <a:ext cx="0" cy="5335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84640" y="5918040"/>
              <a:ext cx="0" cy="5335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57680" y="5918040"/>
              <a:ext cx="0" cy="5335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722960" y="601668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0-1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289160" y="4781520"/>
            <a:ext cx="1434960" cy="825480"/>
            <a:chOff x="1289160" y="4781520"/>
            <a:chExt cx="1434960" cy="825480"/>
          </a:xfrm>
        </p:grpSpPr>
        <p:sp>
          <p:nvSpPr>
            <p:cNvPr id="461" name=""/>
            <p:cNvSpPr/>
            <p:nvPr/>
          </p:nvSpPr>
          <p:spPr>
            <a:xfrm>
              <a:off x="1289160" y="4781520"/>
              <a:ext cx="1434960" cy="8254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4950000"/>
              <a:ext cx="1267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Arial"/>
                </a:rPr>
                <a:t>This Field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Arial"/>
                </a:rPr>
                <a:t>Fixed by IA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901960" y="4781520"/>
            <a:ext cx="4635360" cy="7491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388400" y="4873680"/>
            <a:ext cx="1641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24 Bit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Variable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70520" y="601668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0-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42120" y="601668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0-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94960" y="601668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0-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407960" y="255600"/>
            <a:ext cx="632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 B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19320" y="1523880"/>
            <a:ext cx="6705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 a number of networks having a number of 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2 octets assigned, user designates the other 2 octets (16 b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384 Class B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to 65536 hosts per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149480" y="5499000"/>
            <a:ext cx="6311880" cy="533520"/>
            <a:chOff x="1149480" y="5499000"/>
            <a:chExt cx="6311880" cy="533520"/>
          </a:xfrm>
        </p:grpSpPr>
        <p:sp>
          <p:nvSpPr>
            <p:cNvPr id="473" name=""/>
            <p:cNvSpPr/>
            <p:nvPr/>
          </p:nvSpPr>
          <p:spPr>
            <a:xfrm>
              <a:off x="1149480" y="5505480"/>
              <a:ext cx="6311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66880" y="5499000"/>
              <a:ext cx="0" cy="5335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38480" y="5499000"/>
              <a:ext cx="0" cy="5335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10080" y="5499000"/>
              <a:ext cx="0" cy="5335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432440" y="5597640"/>
            <a:ext cx="83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128-1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32640" y="559764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0-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149480" y="4438800"/>
            <a:ext cx="2730240" cy="672840"/>
            <a:chOff x="1149480" y="4438800"/>
            <a:chExt cx="2730240" cy="672840"/>
          </a:xfrm>
        </p:grpSpPr>
        <p:sp>
          <p:nvSpPr>
            <p:cNvPr id="480" name=""/>
            <p:cNvSpPr/>
            <p:nvPr/>
          </p:nvSpPr>
          <p:spPr>
            <a:xfrm>
              <a:off x="1149480" y="4438800"/>
              <a:ext cx="2730240" cy="6728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08480" y="4530600"/>
              <a:ext cx="163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Arial"/>
                </a:rPr>
                <a:t>These Fields ar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Arial"/>
                </a:rPr>
                <a:t>Fixed by IA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4121280" y="4438800"/>
            <a:ext cx="3340080" cy="660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34520" y="4530600"/>
            <a:ext cx="1641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16 Bit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Variable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90920" y="5638680"/>
            <a:ext cx="638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0-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43760" y="5638680"/>
            <a:ext cx="637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0-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07960" y="407880"/>
            <a:ext cx="632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 C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14400" y="1676520"/>
            <a:ext cx="7238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 networks having a small amount of 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3 octets assigned, user designates last octet (8 b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to 2,097,152 Class C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to 256 hosts per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378080" y="5943600"/>
            <a:ext cx="6311880" cy="533520"/>
            <a:chOff x="1378080" y="5943600"/>
            <a:chExt cx="6311880" cy="533520"/>
          </a:xfrm>
        </p:grpSpPr>
        <p:sp>
          <p:nvSpPr>
            <p:cNvPr id="491" name=""/>
            <p:cNvSpPr/>
            <p:nvPr/>
          </p:nvSpPr>
          <p:spPr>
            <a:xfrm>
              <a:off x="1378080" y="5950080"/>
              <a:ext cx="6311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95480" y="5943600"/>
              <a:ext cx="0" cy="5335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38680" y="5943600"/>
              <a:ext cx="0" cy="5335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735560" y="6041880"/>
            <a:ext cx="83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191-2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183480" y="604188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0-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31040" y="604188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0-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78080" y="4883040"/>
            <a:ext cx="4178160" cy="6732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16480" y="4975200"/>
            <a:ext cx="1632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These Fields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Fixed by I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645160" y="4883040"/>
            <a:ext cx="2044800" cy="6732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56360" y="4898880"/>
            <a:ext cx="930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8 Bit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Variable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07560" y="604188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0-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ost address of all ones is a broadc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ost address of zero means the wire itse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host addresses are always reserved and can never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90720" y="4078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ubnets &amp; Subnet M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0720" y="14479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host on a network (i.e. same cable segment) must be configured with the same subnet 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octet on class A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&amp; second octet on class B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, second, &amp; third octet on class C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net Mask (Netmask) is a bit pattern that defines which portion of the 32 bits represents a subnet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devices use subnet masks to identify which part of the address is network and which part is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L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outed vs. Routing Protoco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d Protocol - any protocol which provides enough information in its network layer address to allow the packet to reach its dest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rotocol - any protocol used by routers to share routing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286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SI MODEL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064360" cy="3776760"/>
            <a:chOff x="457200" y="1600200"/>
            <a:chExt cx="8064360" cy="3776760"/>
          </a:xfrm>
        </p:grpSpPr>
        <p:grpSp>
          <p:nvGrpSpPr>
            <p:cNvPr id="65" name=""/>
            <p:cNvGrpSpPr/>
            <p:nvPr/>
          </p:nvGrpSpPr>
          <p:grpSpPr>
            <a:xfrm>
              <a:off x="457200" y="2300400"/>
              <a:ext cx="2038320" cy="403200"/>
              <a:chOff x="457200" y="2300400"/>
              <a:chExt cx="2038320" cy="403200"/>
            </a:xfrm>
          </p:grpSpPr>
          <p:sp>
            <p:nvSpPr>
              <p:cNvPr id="66" name=""/>
              <p:cNvSpPr/>
              <p:nvPr/>
            </p:nvSpPr>
            <p:spPr>
              <a:xfrm>
                <a:off x="457200" y="2300400"/>
                <a:ext cx="368280" cy="40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38080" y="2300400"/>
                <a:ext cx="1657440" cy="40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457200" y="2732040"/>
              <a:ext cx="2038320" cy="679680"/>
              <a:chOff x="457200" y="2732040"/>
              <a:chExt cx="2038320" cy="679680"/>
            </a:xfrm>
          </p:grpSpPr>
          <p:sp>
            <p:nvSpPr>
              <p:cNvPr id="69" name=""/>
              <p:cNvSpPr/>
              <p:nvPr/>
            </p:nvSpPr>
            <p:spPr>
              <a:xfrm>
                <a:off x="457200" y="2732040"/>
                <a:ext cx="368280" cy="67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38080" y="2732040"/>
                <a:ext cx="1657440" cy="67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57200" y="3440160"/>
              <a:ext cx="2041560" cy="388800"/>
              <a:chOff x="457200" y="3440160"/>
              <a:chExt cx="2041560" cy="388800"/>
            </a:xfrm>
          </p:grpSpPr>
          <p:sp>
            <p:nvSpPr>
              <p:cNvPr id="72" name=""/>
              <p:cNvSpPr/>
              <p:nvPr/>
            </p:nvSpPr>
            <p:spPr>
              <a:xfrm>
                <a:off x="457200" y="3440160"/>
                <a:ext cx="368280" cy="38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38080" y="3440160"/>
                <a:ext cx="1660680" cy="38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457200" y="3859200"/>
              <a:ext cx="2041560" cy="399960"/>
              <a:chOff x="457200" y="3859200"/>
              <a:chExt cx="2041560" cy="399960"/>
            </a:xfrm>
          </p:grpSpPr>
          <p:sp>
            <p:nvSpPr>
              <p:cNvPr id="75" name=""/>
              <p:cNvSpPr/>
              <p:nvPr/>
            </p:nvSpPr>
            <p:spPr>
              <a:xfrm>
                <a:off x="457200" y="3859200"/>
                <a:ext cx="368280" cy="399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38080" y="3859200"/>
                <a:ext cx="1660680" cy="399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57200" y="4289400"/>
              <a:ext cx="2041560" cy="668520"/>
              <a:chOff x="457200" y="4289400"/>
              <a:chExt cx="2041560" cy="668520"/>
            </a:xfrm>
          </p:grpSpPr>
          <p:sp>
            <p:nvSpPr>
              <p:cNvPr id="78" name=""/>
              <p:cNvSpPr/>
              <p:nvPr/>
            </p:nvSpPr>
            <p:spPr>
              <a:xfrm>
                <a:off x="457200" y="4289400"/>
                <a:ext cx="368280" cy="66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8080" y="4289400"/>
                <a:ext cx="1660680" cy="66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57200" y="4991040"/>
              <a:ext cx="2044800" cy="378000"/>
              <a:chOff x="457200" y="4991040"/>
              <a:chExt cx="2044800" cy="378000"/>
            </a:xfrm>
          </p:grpSpPr>
          <p:sp>
            <p:nvSpPr>
              <p:cNvPr id="81" name=""/>
              <p:cNvSpPr/>
              <p:nvPr/>
            </p:nvSpPr>
            <p:spPr>
              <a:xfrm>
                <a:off x="457200" y="4991040"/>
                <a:ext cx="368280" cy="37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38080" y="4991040"/>
                <a:ext cx="1663920" cy="37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711520" y="2313000"/>
              <a:ext cx="5800680" cy="366840"/>
            </a:xfrm>
            <a:prstGeom prst="rect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Provides data representation between sys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2733840"/>
              <a:ext cx="5800680" cy="641160"/>
            </a:xfrm>
            <a:prstGeom prst="rect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Establishes, maintains, manages sessio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example - synchronization of data 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11520" y="3441600"/>
              <a:ext cx="5800680" cy="366840"/>
            </a:xfrm>
            <a:prstGeom prst="rect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Provides end-to-end data transmission integ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11520" y="3861000"/>
              <a:ext cx="5803920" cy="366840"/>
            </a:xfrm>
            <a:prstGeom prst="rect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Switches and routes information un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1520" y="4281480"/>
              <a:ext cx="5810040" cy="641160"/>
            </a:xfrm>
            <a:prstGeom prst="rect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Provides transfer of units of information to other end of physical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11520" y="4989600"/>
              <a:ext cx="5810040" cy="366840"/>
            </a:xfrm>
            <a:prstGeom prst="rect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Transmits bit stream on physical med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1200" y="234648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1200" y="275292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1200" y="347508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1200" y="388152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1200" y="428796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1200" y="501012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57200" y="1606680"/>
              <a:ext cx="2041560" cy="666720"/>
              <a:chOff x="457200" y="1606680"/>
              <a:chExt cx="2041560" cy="666720"/>
            </a:xfrm>
          </p:grpSpPr>
          <p:sp>
            <p:nvSpPr>
              <p:cNvPr id="96" name=""/>
              <p:cNvSpPr/>
              <p:nvPr/>
            </p:nvSpPr>
            <p:spPr>
              <a:xfrm>
                <a:off x="457200" y="1606680"/>
                <a:ext cx="368280" cy="66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38080" y="1606680"/>
                <a:ext cx="1660680" cy="66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714760" y="1606680"/>
              <a:ext cx="5790960" cy="641160"/>
            </a:xfrm>
            <a:prstGeom prst="rect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Provides specific services for applications such a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file trans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1200" y="160020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4680" y="1600200"/>
              <a:ext cx="143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5760" y="234648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5760" y="2752920"/>
              <a:ext cx="106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5760" y="3475080"/>
              <a:ext cx="125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6120" y="3881520"/>
              <a:ext cx="108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5760" y="4287960"/>
              <a:ext cx="1213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5760" y="5010120"/>
              <a:ext cx="1111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512440" y="1219320"/>
            <a:ext cx="4173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ed by the International Standards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638680"/>
            <a:ext cx="715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nemonic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op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outed Protoco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e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/L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07960" y="407880"/>
            <a:ext cx="632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SI Reference Model Protocol 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920880" y="2655720"/>
            <a:ext cx="2044440" cy="2830680"/>
            <a:chOff x="920880" y="2655720"/>
            <a:chExt cx="2044440" cy="2830680"/>
          </a:xfrm>
        </p:grpSpPr>
        <p:sp>
          <p:nvSpPr>
            <p:cNvPr id="517" name=""/>
            <p:cNvSpPr/>
            <p:nvPr/>
          </p:nvSpPr>
          <p:spPr>
            <a:xfrm>
              <a:off x="920880" y="3029040"/>
              <a:ext cx="36828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01760" y="3029040"/>
              <a:ext cx="165744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20880" y="3511440"/>
              <a:ext cx="3682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01760" y="3511440"/>
              <a:ext cx="165744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20880" y="3905280"/>
              <a:ext cx="36828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01760" y="3905280"/>
              <a:ext cx="166068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20880" y="4311720"/>
              <a:ext cx="36828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301760" y="4311720"/>
              <a:ext cx="166068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20880" y="4730760"/>
              <a:ext cx="3682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01760" y="4730760"/>
              <a:ext cx="16606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20880" y="5102280"/>
              <a:ext cx="368280" cy="36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01760" y="5102280"/>
              <a:ext cx="1663560" cy="36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74880" y="307512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74880" y="35449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74880" y="393876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74880" y="43322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74880" y="472608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74880" y="511956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20880" y="2662200"/>
              <a:ext cx="36828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01760" y="2662200"/>
              <a:ext cx="166068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74880" y="26557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79440" y="2655720"/>
              <a:ext cx="1428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79440" y="307512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279440" y="3544920"/>
              <a:ext cx="1060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79080" y="3938760"/>
              <a:ext cx="125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79440" y="4332240"/>
              <a:ext cx="108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79080" y="4726080"/>
              <a:ext cx="1213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79440" y="5119560"/>
              <a:ext cx="1111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978280" y="2662200"/>
            <a:ext cx="1663560" cy="2805120"/>
            <a:chOff x="2978280" y="2662200"/>
            <a:chExt cx="1663560" cy="2805120"/>
          </a:xfrm>
        </p:grpSpPr>
        <p:sp>
          <p:nvSpPr>
            <p:cNvPr id="546" name=""/>
            <p:cNvSpPr/>
            <p:nvPr/>
          </p:nvSpPr>
          <p:spPr>
            <a:xfrm>
              <a:off x="2978280" y="3029040"/>
              <a:ext cx="166356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78280" y="3511440"/>
              <a:ext cx="1663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978280" y="3905280"/>
              <a:ext cx="166032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78280" y="4311720"/>
              <a:ext cx="166032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78280" y="4730760"/>
              <a:ext cx="166032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78280" y="5102280"/>
              <a:ext cx="1663560" cy="36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978280" y="2662200"/>
              <a:ext cx="166032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654440" y="2662200"/>
            <a:ext cx="1663920" cy="2805120"/>
            <a:chOff x="4654440" y="2662200"/>
            <a:chExt cx="1663920" cy="2805120"/>
          </a:xfrm>
        </p:grpSpPr>
        <p:sp>
          <p:nvSpPr>
            <p:cNvPr id="554" name=""/>
            <p:cNvSpPr/>
            <p:nvPr/>
          </p:nvSpPr>
          <p:spPr>
            <a:xfrm>
              <a:off x="4654440" y="3029040"/>
              <a:ext cx="166392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54440" y="3511440"/>
              <a:ext cx="1663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54440" y="3905280"/>
              <a:ext cx="166392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54440" y="4311720"/>
              <a:ext cx="166392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54440" y="4730760"/>
              <a:ext cx="166392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54440" y="5102280"/>
              <a:ext cx="1663920" cy="36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54440" y="2662200"/>
              <a:ext cx="166392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6330960" y="2662200"/>
            <a:ext cx="1663560" cy="2805120"/>
            <a:chOff x="6330960" y="2662200"/>
            <a:chExt cx="1663560" cy="2805120"/>
          </a:xfrm>
        </p:grpSpPr>
        <p:sp>
          <p:nvSpPr>
            <p:cNvPr id="562" name=""/>
            <p:cNvSpPr/>
            <p:nvPr/>
          </p:nvSpPr>
          <p:spPr>
            <a:xfrm>
              <a:off x="6330960" y="3029040"/>
              <a:ext cx="166356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30960" y="3511440"/>
              <a:ext cx="1663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30960" y="3905280"/>
              <a:ext cx="166068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330960" y="4311720"/>
              <a:ext cx="166068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30960" y="4730760"/>
              <a:ext cx="16606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30960" y="5102280"/>
              <a:ext cx="1663560" cy="36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0960" y="2662200"/>
              <a:ext cx="166068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971800" y="2590920"/>
            <a:ext cx="1676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 using TCP/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71800" y="3886200"/>
            <a:ext cx="167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71800" y="4343400"/>
            <a:ext cx="167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71800" y="2209680"/>
            <a:ext cx="167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8320" y="2209680"/>
            <a:ext cx="167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324480" y="2209680"/>
            <a:ext cx="167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X/I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48320" y="2590920"/>
            <a:ext cx="1676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 using UDP/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48320" y="3886200"/>
            <a:ext cx="1676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48320" y="4343400"/>
            <a:ext cx="1676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24480" y="2590920"/>
            <a:ext cx="1676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 using SPX/IP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324480" y="3505320"/>
            <a:ext cx="167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324480" y="4343400"/>
            <a:ext cx="167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14400" y="42084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Network-level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0720" y="1447920"/>
            <a:ext cx="7162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X (Internet Packet Exchange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ll Netware &amp;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 with the Session-layer protocol SPX (Sequential Packet Exchange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BEUI (NetBIOS Extended User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for Workgroups &amp;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(Interne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 NT, Win 95, Unix, et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 with the Transport-layer protoco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 (Transmission Control Protocol) and UDP (User Datagram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P (Serial-line Input Protocol) &amp; PPP (Point-to-Poin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07960" y="331920"/>
            <a:ext cx="632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CP/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90720" y="1600200"/>
            <a:ext cx="7162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a suite of protocols (TCP &amp; 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data in the form of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s track of packets which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a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universal conn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liable full duplex stream delivery (as opposed to the unreliable UDP/IP protocol suite used by such applications as PING and D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407960" y="407880"/>
            <a:ext cx="632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CP/IP (cont'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Services (applications) using 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le Transfer (F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te Login (Tel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ectronic Mail (SM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the most widely used protocol (especially on the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he IP addres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ctor-dist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destination networks with direction and distance in h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-stat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y map of network identifies all routers and sub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 is determined from shortest path to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can be manually loaded (static) or dynamically maint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outing Intern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ement Domai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e of Internet uses Gateway-Gateway Protocol (GGP) to exchange data betwee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ior Gateway Protocol (EGP) is used to exchange routing data with core and other autonomou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ior Gateway Protocol (IGP) is used within autonomou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ou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ernet Management Domai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368440" y="1835280"/>
            <a:ext cx="4254480" cy="1739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5080" y="4425840"/>
            <a:ext cx="3111480" cy="2197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21480" y="4502160"/>
            <a:ext cx="3111480" cy="2197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901960" y="2368440"/>
            <a:ext cx="673200" cy="673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64280" y="2444760"/>
            <a:ext cx="672840" cy="673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81280" y="2743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70720" y="2346480"/>
            <a:ext cx="79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15960" y="5035680"/>
            <a:ext cx="520560" cy="444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54040" y="5950080"/>
            <a:ext cx="520920" cy="444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21080" y="5187960"/>
            <a:ext cx="5205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178680" y="5111640"/>
            <a:ext cx="5205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45360" y="6102360"/>
            <a:ext cx="5205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931160" y="5187960"/>
            <a:ext cx="5205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43000" y="5257800"/>
            <a:ext cx="1371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54864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1980720" y="5638680"/>
            <a:ext cx="685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1143000" y="3048120"/>
            <a:ext cx="175248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43600" y="3124080"/>
            <a:ext cx="457200" cy="198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5410080"/>
            <a:ext cx="1218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77120" y="5562720"/>
            <a:ext cx="7617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7772040" y="56386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79080" y="5394240"/>
            <a:ext cx="67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68600" y="5546880"/>
            <a:ext cx="67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41920" y="387036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56720" y="371808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458760" y="1889280"/>
            <a:ext cx="180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04640" y="6004080"/>
            <a:ext cx="28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nomous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ro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ered by h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 path to a network or sub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I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ance V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ior Gateway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isy, not the most effic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routes every 30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st cost route always b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st of 16 is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ecurity, anyone can pretend to be a rou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7960" y="407880"/>
            <a:ext cx="632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SI Reference Model Data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92280" y="2046240"/>
            <a:ext cx="2044440" cy="2830680"/>
            <a:chOff x="692280" y="2046240"/>
            <a:chExt cx="2044440" cy="2830680"/>
          </a:xfrm>
        </p:grpSpPr>
        <p:grpSp>
          <p:nvGrpSpPr>
            <p:cNvPr id="113" name=""/>
            <p:cNvGrpSpPr/>
            <p:nvPr/>
          </p:nvGrpSpPr>
          <p:grpSpPr>
            <a:xfrm>
              <a:off x="692280" y="2419200"/>
              <a:ext cx="2038320" cy="470160"/>
              <a:chOff x="692280" y="2419200"/>
              <a:chExt cx="2038320" cy="470160"/>
            </a:xfrm>
          </p:grpSpPr>
          <p:sp>
            <p:nvSpPr>
              <p:cNvPr id="114" name=""/>
              <p:cNvSpPr/>
              <p:nvPr/>
            </p:nvSpPr>
            <p:spPr>
              <a:xfrm>
                <a:off x="692280" y="2419200"/>
                <a:ext cx="368280" cy="470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73160" y="2419200"/>
                <a:ext cx="1657440" cy="470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92280" y="2901960"/>
              <a:ext cx="2038320" cy="444600"/>
              <a:chOff x="692280" y="2901960"/>
              <a:chExt cx="2038320" cy="444600"/>
            </a:xfrm>
          </p:grpSpPr>
          <p:sp>
            <p:nvSpPr>
              <p:cNvPr id="117" name=""/>
              <p:cNvSpPr/>
              <p:nvPr/>
            </p:nvSpPr>
            <p:spPr>
              <a:xfrm>
                <a:off x="692280" y="2901960"/>
                <a:ext cx="3682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73160" y="2901960"/>
                <a:ext cx="165744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92280" y="3295800"/>
              <a:ext cx="2041560" cy="507960"/>
              <a:chOff x="692280" y="3295800"/>
              <a:chExt cx="2041560" cy="507960"/>
            </a:xfrm>
          </p:grpSpPr>
          <p:sp>
            <p:nvSpPr>
              <p:cNvPr id="120" name=""/>
              <p:cNvSpPr/>
              <p:nvPr/>
            </p:nvSpPr>
            <p:spPr>
              <a:xfrm>
                <a:off x="692280" y="3295800"/>
                <a:ext cx="36828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73160" y="3295800"/>
                <a:ext cx="166068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92280" y="3701880"/>
              <a:ext cx="2041560" cy="406440"/>
              <a:chOff x="692280" y="3701880"/>
              <a:chExt cx="2041560" cy="40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692280" y="3701880"/>
                <a:ext cx="368280" cy="406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73160" y="3701880"/>
                <a:ext cx="1660680" cy="406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92280" y="4121280"/>
              <a:ext cx="2041560" cy="368280"/>
              <a:chOff x="692280" y="4121280"/>
              <a:chExt cx="2041560" cy="368280"/>
            </a:xfrm>
          </p:grpSpPr>
          <p:sp>
            <p:nvSpPr>
              <p:cNvPr id="126" name=""/>
              <p:cNvSpPr/>
              <p:nvPr/>
            </p:nvSpPr>
            <p:spPr>
              <a:xfrm>
                <a:off x="692280" y="4121280"/>
                <a:ext cx="36828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73160" y="4121280"/>
                <a:ext cx="166068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92280" y="4492800"/>
              <a:ext cx="2044440" cy="365040"/>
              <a:chOff x="692280" y="4492800"/>
              <a:chExt cx="2044440" cy="365040"/>
            </a:xfrm>
          </p:grpSpPr>
          <p:sp>
            <p:nvSpPr>
              <p:cNvPr id="129" name=""/>
              <p:cNvSpPr/>
              <p:nvPr/>
            </p:nvSpPr>
            <p:spPr>
              <a:xfrm>
                <a:off x="692280" y="4492800"/>
                <a:ext cx="368280" cy="36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73160" y="4492800"/>
                <a:ext cx="1663560" cy="36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46280" y="246528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6280" y="29354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280" y="332892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6280" y="37227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6280" y="411624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6280" y="451008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92280" y="2052720"/>
              <a:ext cx="2041560" cy="379440"/>
              <a:chOff x="692280" y="2052720"/>
              <a:chExt cx="2041560" cy="379440"/>
            </a:xfrm>
          </p:grpSpPr>
          <p:sp>
            <p:nvSpPr>
              <p:cNvPr id="138" name=""/>
              <p:cNvSpPr/>
              <p:nvPr/>
            </p:nvSpPr>
            <p:spPr>
              <a:xfrm>
                <a:off x="692280" y="2052720"/>
                <a:ext cx="368280" cy="37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3160" y="2052720"/>
                <a:ext cx="1660680" cy="37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746280" y="20462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50840" y="2046240"/>
              <a:ext cx="1428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50840" y="246528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50840" y="2935440"/>
              <a:ext cx="1060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50480" y="3328920"/>
              <a:ext cx="125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50840" y="3722760"/>
              <a:ext cx="108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50480" y="4116240"/>
              <a:ext cx="1213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50840" y="4510080"/>
              <a:ext cx="1111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167796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1752480"/>
            <a:ext cx="213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057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133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50292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928880" y="3302640"/>
            <a:ext cx="293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ravels down the st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56000" y="5056200"/>
            <a:ext cx="218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ugh the net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212360" y="3146760"/>
            <a:ext cx="293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n up the receiving st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330960" y="2122560"/>
            <a:ext cx="2044800" cy="2830680"/>
            <a:chOff x="6330960" y="2122560"/>
            <a:chExt cx="2044800" cy="2830680"/>
          </a:xfrm>
        </p:grpSpPr>
        <p:grpSp>
          <p:nvGrpSpPr>
            <p:cNvPr id="157" name=""/>
            <p:cNvGrpSpPr/>
            <p:nvPr/>
          </p:nvGrpSpPr>
          <p:grpSpPr>
            <a:xfrm>
              <a:off x="6330960" y="2495520"/>
              <a:ext cx="2038320" cy="469800"/>
              <a:chOff x="6330960" y="2495520"/>
              <a:chExt cx="2038320" cy="469800"/>
            </a:xfrm>
          </p:grpSpPr>
          <p:sp>
            <p:nvSpPr>
              <p:cNvPr id="158" name=""/>
              <p:cNvSpPr/>
              <p:nvPr/>
            </p:nvSpPr>
            <p:spPr>
              <a:xfrm>
                <a:off x="6330960" y="2495520"/>
                <a:ext cx="368280" cy="469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11840" y="2495520"/>
                <a:ext cx="1657440" cy="469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330960" y="2978280"/>
              <a:ext cx="2038320" cy="444240"/>
              <a:chOff x="6330960" y="2978280"/>
              <a:chExt cx="2038320" cy="444240"/>
            </a:xfrm>
          </p:grpSpPr>
          <p:sp>
            <p:nvSpPr>
              <p:cNvPr id="161" name=""/>
              <p:cNvSpPr/>
              <p:nvPr/>
            </p:nvSpPr>
            <p:spPr>
              <a:xfrm>
                <a:off x="6330960" y="2978280"/>
                <a:ext cx="368280" cy="444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11840" y="2978280"/>
                <a:ext cx="1657440" cy="444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330960" y="3371760"/>
              <a:ext cx="2041560" cy="507960"/>
              <a:chOff x="6330960" y="3371760"/>
              <a:chExt cx="2041560" cy="507960"/>
            </a:xfrm>
          </p:grpSpPr>
          <p:sp>
            <p:nvSpPr>
              <p:cNvPr id="164" name=""/>
              <p:cNvSpPr/>
              <p:nvPr/>
            </p:nvSpPr>
            <p:spPr>
              <a:xfrm>
                <a:off x="6330960" y="3371760"/>
                <a:ext cx="36828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11840" y="3371760"/>
                <a:ext cx="166068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330960" y="3778200"/>
              <a:ext cx="2041560" cy="406440"/>
              <a:chOff x="6330960" y="3778200"/>
              <a:chExt cx="2041560" cy="406440"/>
            </a:xfrm>
          </p:grpSpPr>
          <p:sp>
            <p:nvSpPr>
              <p:cNvPr id="167" name=""/>
              <p:cNvSpPr/>
              <p:nvPr/>
            </p:nvSpPr>
            <p:spPr>
              <a:xfrm>
                <a:off x="6330960" y="3778200"/>
                <a:ext cx="368280" cy="406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711840" y="3778200"/>
                <a:ext cx="1660680" cy="406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330960" y="4197240"/>
              <a:ext cx="2041560" cy="368280"/>
              <a:chOff x="6330960" y="4197240"/>
              <a:chExt cx="2041560" cy="368280"/>
            </a:xfrm>
          </p:grpSpPr>
          <p:sp>
            <p:nvSpPr>
              <p:cNvPr id="170" name=""/>
              <p:cNvSpPr/>
              <p:nvPr/>
            </p:nvSpPr>
            <p:spPr>
              <a:xfrm>
                <a:off x="6330960" y="4197240"/>
                <a:ext cx="36828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11840" y="4197240"/>
                <a:ext cx="166068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330960" y="4568760"/>
              <a:ext cx="2044800" cy="365040"/>
              <a:chOff x="6330960" y="4568760"/>
              <a:chExt cx="2044800" cy="365040"/>
            </a:xfrm>
          </p:grpSpPr>
          <p:sp>
            <p:nvSpPr>
              <p:cNvPr id="173" name=""/>
              <p:cNvSpPr/>
              <p:nvPr/>
            </p:nvSpPr>
            <p:spPr>
              <a:xfrm>
                <a:off x="6330960" y="4568760"/>
                <a:ext cx="368280" cy="36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11840" y="4568760"/>
                <a:ext cx="1663920" cy="36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6384960" y="254160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84960" y="30114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84960" y="340524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84960" y="37987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84960" y="419256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84960" y="458640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30960" y="2128680"/>
              <a:ext cx="2041560" cy="379440"/>
              <a:chOff x="6330960" y="2128680"/>
              <a:chExt cx="2041560" cy="379440"/>
            </a:xfrm>
          </p:grpSpPr>
          <p:sp>
            <p:nvSpPr>
              <p:cNvPr id="182" name=""/>
              <p:cNvSpPr/>
              <p:nvPr/>
            </p:nvSpPr>
            <p:spPr>
              <a:xfrm>
                <a:off x="6330960" y="2128680"/>
                <a:ext cx="368280" cy="37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711840" y="2128680"/>
                <a:ext cx="1660680" cy="37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6384960" y="21225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89880" y="2122560"/>
              <a:ext cx="1428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89520" y="254160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89880" y="3011400"/>
              <a:ext cx="1060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9520" y="3405240"/>
              <a:ext cx="125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9880" y="3798720"/>
              <a:ext cx="108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9520" y="4192560"/>
              <a:ext cx="1213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9520" y="4586400"/>
              <a:ext cx="1111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85800" y="5334120"/>
            <a:ext cx="7772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 the data passes through each layer on the client information about that layer is added to the data..  This information is stripped off by the corresponding layer on the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-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ior Gateway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rs elect “Designated Rout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routers establish a topology database using DR as gateway between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ng with IGRP, a replacement for outdated R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G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rder Gateway Protocol is an EG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upport multiple paths between autonomous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detect and suppress routing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recently down because of incorrectly configured BGP on ISP rou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(packet sender) can specify route a packet will traverse the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types, strict and lo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IP spoofing att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rely allowed acros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X Service Advertis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UDP and TCP connectionless or connection orien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I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in the dif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es, manages and terminates sessions between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tes service requests and responses that occur when applications communicate between differen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include:  NFS, RPC, X Window System, AppleTalk Session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esentation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code formatting and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translates between differing text and data character representations such as EBCDIC and ASC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includes data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6 standards include JPEG, GIF, MPEG, MI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914400" y="42084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pplication-level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990720" y="1752480"/>
            <a:ext cx="7162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P (File Transfer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FTP (Trivial File Transfer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some X-Terminal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(HyperText Transfer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MP (Simple Network Management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s network managers locate and correct problems in a TCP/IP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gain information from network devices such as count of packets received and routing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TP (Simple Mail Transfer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many email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dentification &amp; Authentic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o is connecting - user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enticate who is conn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word (static) - something you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(SecureID) - something you h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metric - something you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US, TACACS, PAP, CH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rewall Ter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address translation (N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addresses unreachable from externa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MZ - De-Militarized Z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 that are directly reachable from untrust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L - Access Control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router or firewall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rewall Ter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ke, Choke rou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outer with packet filtering rules (ACLs) ena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, Bastion host, Dual Homed H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rver that provides packet filtering and/or prox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xy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rver that provides application prox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SI Mode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networked is covered by OSI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model in mind for rest of cou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layers to be explored in more det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rewall typ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-filtering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Access Control Lists (AC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/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reened ho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-filtering and Bastion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 layer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reened subnet (DMZ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cket filtering routers and bastion host(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sec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rewall mechanis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xy serv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bank te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ful Insp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and context analyzed on every packet in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rusion Detection (IDS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or network ba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 and content monito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itioned at network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ally a sniffer with the capability to detect traffic patterns known as attack 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eb Secur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e sockets Layer (SSL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ort layer security (TCP ba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ely used for web based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onvention, https:\\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e Hypertext Transfer Protocol (S-HTT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popular than SS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for individual messages rather than ses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e Electronic Transactions (S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K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ncial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ed by VISA, MasterCard, Microsoft, Netsca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protocols developed by IE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used to implement VP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m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payload (data), clear text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payload and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requires shared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mon Attac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section covers common hacker att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understand them completely, need to be able to recognize the name and basic 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poof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Sequence number predi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- trivial to spoof (C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 - spoof/manipulate IP/hostname pai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niff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ive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the “wire” for all traffic - most effective in shared media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niffers used to be “hardware”, now are a standard software too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ssion Hijack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sniffer to detect sessions, get pertinent session info (sequence numbers, IP addres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ly injects packets, spoofing the client side of the connection, taking over session with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passes I&amp;A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is a countermeasure, stateful inspection can be a countermea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P Fragment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fragmentation options in the IP header to force data in the packet to be overwritten upon reassemb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circumvent packet fil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 TOP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DS Attac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ion Att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information to confuse pattern ma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sion Att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ck the IDS into not detecting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- Send a TCP RST with a TTL setting such that the packet expires prior to reaching its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yn Flood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mber the TCP handsha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, Syn-Ack,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 a lot of Sy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send 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ctim has a lot of open connections, can’t accept any more incoming conn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lecom/Remote Access Secur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l up lines are favorite hacker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 di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ial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BX is a favorite phreaker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ue box, gold box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mote Access Secur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IP - Serial Line 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PP - Point to Poi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P/PPP about the same, PPP adds error checking, SLIP obso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 - Password authentic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text 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P - Challenge Handshake Auth. Pr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mote Access Secur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CACS, TACACS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Access Controller Access Control System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devices query TACACS server to verify passw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” adds ability for two-factor (dynamic) passw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d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Auth. Dial-In Use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irtual Private Networ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TP - Point to Point Tunnel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s VPN for dial-up users to access 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 - Secure Sh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encrypted sessions, file trans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used as a V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AI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ndant Array of Inexpensive(or Independent) Disks - 7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0 - Data striping  (spreads blocks of each file across multiple dis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1 - Provides disk mirr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3 - Same as 0, but adds a disk for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5 - Data striping at byte level, error correction t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3:11:32Z</dcterms:created>
  <dc:creator>brothke@hotmail.com</dc:creator>
  <dc:description/>
  <dc:language>en-US</dc:language>
  <cp:lastModifiedBy>BRothke</cp:lastModifiedBy>
  <dcterms:modified xsi:type="dcterms:W3CDTF">2003-06-12T14:42:45Z</dcterms:modified>
  <cp:revision>6</cp:revision>
  <dc:subject/>
  <dc:title>No Slide Title</dc:title>
</cp:coreProperties>
</file>